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431-4610-471E-A7BA-3FD5F833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037-4DE0-485C-816C-CCF33F44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D80-9A16-45F4-BBF3-50DA1B33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90F-0500-471F-81BC-E3648821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5622-AEAD-4A78-9A38-B4F1B21A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378B-3707-4504-8D97-25F95336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95D0-72B1-47AE-A5DE-477E7F44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0D7A-EEA8-470D-AEE1-44EF74FE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4040-367C-4246-8C17-F5ED1E8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2645-0023-44BE-B944-56369A47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F6C0-0998-4093-8749-A2B2AF7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677-3499-45F0-A515-1F3E7522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A19E-1EFB-4808-9012-373FF01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76B8-6932-4B95-983F-0C2B9A14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DEA3-DB84-4D41-84A2-2A786E89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90F6-CCD5-4A11-BE5B-E11B4F65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3D6A-331F-4985-ABAE-F4094405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3A9-D0C6-4722-B99E-6F796A9E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ADF-AFF2-42BD-81FF-BC33879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B4C-288C-4CD7-A350-04820D0B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00B-1C1C-4BE0-806E-4258C154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AC5-FD50-4890-911F-5B48C33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3F4-0EF6-4FA4-BF20-B4F8F9F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BAF-4ACD-4A90-B660-5A1DB2E0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8870-A495-4B1F-A1BB-41DEEEE7AB2B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A779-0E2C-444A-BF4C-94CAE1F9CC25}" type="slidenum"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A Remnant Shall Retur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rter 8, Lesson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ges 47-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er. 38-40; Eze. 32-33,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8077320" cy="5245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29000" y="2362320"/>
            <a:ext cx="609480" cy="19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609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Here On The Time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16002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zekiel &amp; Jerem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648320"/>
            <a:ext cx="1219320" cy="1143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Jeremiah’s Message To Zedekiah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The Opposite of What Zedekiah Wanted to Hear – Jer. 37:1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Change Anyone’s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Got Jeremiah Into Trouble - 37:11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remiah Continued to Tell The Unpopular Truth That Zedekiah Would Soon Be Handed Over To The King of Babylon - 17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Was Jeremiah Really The Trouble Maker?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Foes Wanted To Get Rid of Him – Jer.38:1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 Has Ways of Delivering The Godly – 38:7-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remiah Gets One Final Meeting With Zedekiah – 38:14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, His Message Remained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remiah Did Not Compromise For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l Troublers Were In The Maj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Were Not Sincere About Serving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Were Troubling God and the Right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2400"/>
                </a:solidFill>
                <a:latin typeface="Times New Roman"/>
              </a:rPr>
              <a:t>The Babylonians Move Into Jerusalem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ll is Breached – (2 Kgs. 25:4-7) in 586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ll of Jerusalem – Jer. 39:1-7; 52:6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dekiah is blinded, bound, and sent into ex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rusalem is burned – 2 Kgs. 25:8-17; Jer. 39:8; 52:12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remiah is given a choice; and he chooses to stay in Jerusalem – Jer. 39:11-14; 40:1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 officials were executed – 2 Kgs. 25:18-21; Jer. 52:24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daliah is appointed governor – 2 Kgs. 25:22-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Lamentations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remiah Writes of the Grief of Seeing Jerusalem in R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rrows in Jerusalem – ch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son for Jerusalem’s Overthrow- ch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’s Mercy: The Hope of Relief – ch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st and Present of Israel – ch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tress of the Siege Described – ch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Prayer for Mer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Gedaliah is Slain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k by Ishmael, a traitor in the army, who was hired by Baalis king of A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ear of reprisal from Babylon, the Jews flee to Egypt, taking Jeremiah and Baruch with them – 585 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ekiel Learns of the Fall of Jerusalem – Ezek. 33:21-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pt Becomes The Target of God’s Wrath – Ezek. 32:1-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Back In Babylon Ezekiel Paints A Picture of Hope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ithful Watchman Keeps Telling the Truth Even If People Refuse To Take It To Heart – Ezek. 33:1-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ithless Watchman Will Be Held Responsible For Not Warning the People - 33: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scapee From Jerusalem Comes to Ezekiel – 33:21-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ity is Sm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82400"/>
                </a:solidFill>
                <a:latin typeface="Times New Roman"/>
              </a:rPr>
              <a:t>Back In Babylon Ezekiel Paints A Picture of Hope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Yet Future Blessings For Israel – Ezek. 36:1-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Come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Replant and Reple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 will protec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have new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be His people; He will Be Their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6:24:44Z</dcterms:created>
  <dc:creator> Tab Vines</dc:creator>
  <dc:description/>
  <dc:language>en-US</dc:language>
  <cp:lastModifiedBy>Frank D Vines</cp:lastModifiedBy>
  <dcterms:modified xsi:type="dcterms:W3CDTF">2006-05-01T22:36:24Z</dcterms:modified>
  <cp:revision>5</cp:revision>
  <dc:subject/>
  <dc:title>A Remnant Shall Return</dc:title>
</cp:coreProperties>
</file>